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8F4FDB3-D798-410A-81C4-8D0EBBDFD38A}"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9E240AF-B6DE-4CB8-9211-63D37F286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2884320" y="514440"/>
            <a:ext cx="3375360" cy="2571840"/>
          </a:xfrm>
          <a:prstGeom prst="rect">
            <a:avLst/>
          </a:prstGeom>
          <a:ln w="0">
            <a:noFill/>
          </a:ln>
        </p:spPr>
      </p:sp>
      <p:sp>
        <p:nvSpPr>
          <p:cNvPr id="7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44E4DC6-8BB5-48C5-A905-CE321FFD1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4"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668E1-240B-4227-A378-B047227C4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BD3EF-28D6-4B09-BBA3-C3A45A68B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0424E-3BA0-4832-BB94-442D98CD0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20D6C-D775-4FC5-8D2E-7443FD05E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1D012-42D2-43AB-87F8-BEA120076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644B7-A0BE-4D52-8C22-E6AFEC76A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8313D-96AE-4879-8DE2-317CCC7E8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64D12-60F6-49C5-9F17-43B86BB9B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8E2F2-03FA-4DF9-9057-C225F8CB4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79E23-7E97-4DEF-A654-FA45B08F1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BD4C5-3180-4DAA-8D63-805F1E364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F3733-3E86-4B5D-99EB-8C4DEEA38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D026914-FC30-436F-8762-DA6715B5E5E0}" type="datetime">
              <a:rPr b="0" lang="en-US" sz="1300" spc="-1" strike="noStrike">
                <a:solidFill>
                  <a:srgbClr val="898989"/>
                </a:solidFill>
                <a:latin typeface="Calibri"/>
              </a:rPr>
              <a:t>07/28/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F21B001-C6DA-4F77-BF9D-ED75348E767C}"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0402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0" y="685800"/>
            <a:ext cx="2666880" cy="16945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Verbs)</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100" spc="-1" strike="noStrike">
                <a:solidFill>
                  <a:srgbClr val="000000"/>
                </a:solidFill>
                <a:latin typeface="Comic Sans MS"/>
              </a:rPr>
              <a:t>Draw 6 pictures.  Use a verb that names an action in 3 pictures (ex: ran, talked, smiled) and a verb that can’t be seen in the other 3 pictures (ex: thought, worried, heard.) Include a caption sentence that uses the word in past tense.</a:t>
            </a:r>
            <a:endParaRPr b="0" lang="en-US" sz="1100" spc="-1" strike="noStrike">
              <a:solidFill>
                <a:srgbClr val="000000"/>
              </a:solidFill>
              <a:latin typeface="Arial"/>
            </a:endParaRPr>
          </a:p>
        </p:txBody>
      </p:sp>
      <p:sp>
        <p:nvSpPr>
          <p:cNvPr id="53" name="TextBox 12"/>
          <p:cNvSpPr/>
          <p:nvPr/>
        </p:nvSpPr>
        <p:spPr>
          <a:xfrm>
            <a:off x="6629400" y="2746440"/>
            <a:ext cx="2800440" cy="10702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Contractions</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eparate each spelling word into two words.</a:t>
            </a:r>
            <a:endParaRPr b="0" lang="en-US" sz="1600" spc="-1" strike="noStrike">
              <a:solidFill>
                <a:srgbClr val="000000"/>
              </a:solidFill>
              <a:latin typeface="Arial"/>
            </a:endParaRPr>
          </a:p>
        </p:txBody>
      </p:sp>
      <p:sp>
        <p:nvSpPr>
          <p:cNvPr id="54" name="TextBox 13"/>
          <p:cNvSpPr/>
          <p:nvPr/>
        </p:nvSpPr>
        <p:spPr>
          <a:xfrm>
            <a:off x="3160800" y="4952880"/>
            <a:ext cx="3279600" cy="2914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900" spc="-1" strike="noStrike">
                <a:solidFill>
                  <a:srgbClr val="000000"/>
                </a:solidFill>
                <a:latin typeface="Calibri"/>
              </a:rPr>
              <a:t>(Word Families)</a:t>
            </a: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900" spc="-1" strike="noStrike">
                <a:solidFill>
                  <a:srgbClr val="000000"/>
                </a:solidFill>
                <a:latin typeface="Calibri"/>
              </a:rPr>
              <a:t>Choose 5 words from the text and write word families.  Use the following endings:  est, ing, ly, ful, less, er, s</a:t>
            </a: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900" spc="-1" strike="noStrike">
                <a:solidFill>
                  <a:srgbClr val="000000"/>
                </a:solidFill>
                <a:latin typeface="Calibri"/>
              </a:rPr>
              <a:t>(ex:  care, careful, careless, caring, cares)</a:t>
            </a: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ie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5835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in cursive twice.</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276720" y="2743200"/>
            <a:ext cx="2958840" cy="192204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Students must write a “How to paragraph” about a chore you do at home (taking out the trash, helping with dinner, making your bed, etc)   Provide clear steps using sequencing words such as first, second, third, etc. Pretend that you have company visiting and they will be doing your chore for you. Give clear directions.</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Jalapeño Bagels</a:t>
            </a:r>
            <a:r>
              <a:rPr b="0" i="1" lang="en-US" sz="1500" spc="-1" strike="noStrike">
                <a:solidFill>
                  <a:srgbClr val="000000"/>
                </a:solidFill>
                <a:latin typeface="Calibri"/>
              </a:rPr>
              <a:t> .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2"/>
          <p:cNvSpPr/>
          <p:nvPr/>
        </p:nvSpPr>
        <p:spPr>
          <a:xfrm>
            <a:off x="4648320" y="7010280"/>
            <a:ext cx="190476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70"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0:51:53Z</dcterms:created>
  <dc:creator> </dc:creator>
  <dc:description/>
  <dc:language>en-US</dc:language>
  <cp:lastModifiedBy>Kathryn Cobb</cp:lastModifiedBy>
  <cp:lastPrinted>2009-03-12T10:54:35Z</cp:lastPrinted>
  <dcterms:modified xsi:type="dcterms:W3CDTF">2009-03-19T11:16:47Z</dcterms:modified>
  <cp:revision>10</cp:revision>
  <dc:subject/>
  <dc:title>Slide 1</dc:title>
</cp:coreProperties>
</file>